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68040" y="896760"/>
            <a:ext cx="516564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52440" y="777960"/>
            <a:ext cx="459432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021200" y="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8.04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021200" y="972036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  <a:tab algn="l" pos="10953720"/>
              </a:tabLst>
            </a:pPr>
            <a:fld id="{3DA299AC-8140-43C7-A8F4-3C302D847E0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600" bIns="486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nitial climate analyses relevant to the RE sector have been made by the climate scientists at IC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 will show the results for temperature and then downward solar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top 2 plots show observed and forecast temperature variation from the mean across the Mediterranean for 2005-2010.  Although the forecast represents temperatures slightly different to the observed, the climate model has accurately forecast the overall trend which shows a warmer eastern mediterranean compared to the w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plot is an example of how climate services within the CLIMRUN project can present climate information in a format that can help stakeholders to incorporate it within their decision making processes.  Plot C shows that most areas across the Mediterannean demonstrate an above normal temperature between 2005 and 2010, with the majority of the areas showing a  50-70% probability of this above normal temperature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08200" y="793800"/>
            <a:ext cx="5508360" cy="3813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846320"/>
            <a:ext cx="518148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diagram illustrating the initialization and production of the multi-model hindc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160" y="253800"/>
            <a:ext cx="9074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20" y="6477120"/>
            <a:ext cx="9523440" cy="56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360" y="6578640"/>
            <a:ext cx="972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CRA Meeting –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Climate Forecasting Unit activity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Brussels, 25 September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40480" y="540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900" spc="-1" strike="noStrike">
                <a:solidFill>
                  <a:srgbClr val="000000"/>
                </a:solidFill>
                <a:latin typeface="Arial"/>
              </a:rPr>
              <a:t>INSTITUT CATALÀ DE CIÈNCIES DEL C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contrast="24000"/>
          </a:blip>
          <a:srcRect l="2171" t="3036" r="13026" b="3036"/>
          <a:stretch/>
        </p:blipFill>
        <p:spPr>
          <a:xfrm>
            <a:off x="9329760" y="0"/>
            <a:ext cx="57636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3.cat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8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2880" y="1255680"/>
            <a:ext cx="936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ctivities of the Institut Català de Cienciès del Clima on seasonal to decadal prediction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The Climate Forecasting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2951" t="0" r="12951" b="40404"/>
          <a:stretch/>
        </p:blipFill>
        <p:spPr>
          <a:xfrm>
            <a:off x="8415360" y="6058080"/>
            <a:ext cx="1352520" cy="41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67520" y="5994360"/>
            <a:ext cx="2181240" cy="44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73600" y="5994360"/>
            <a:ext cx="2181240" cy="473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31800" y="5865840"/>
            <a:ext cx="2159280" cy="57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7520" y="5877000"/>
            <a:ext cx="13604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5559" r="4773" b="9883"/>
          <a:stretch/>
        </p:blipFill>
        <p:spPr>
          <a:xfrm>
            <a:off x="47520" y="2387520"/>
            <a:ext cx="5029200" cy="3336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2160" y="279360"/>
            <a:ext cx="8515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ion : XXI</a:t>
            </a:r>
            <a:r>
              <a:rPr b="0" lang="en-GB" sz="3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century hi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160" y="6129360"/>
            <a:ext cx="517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uema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87880" y="4780080"/>
            <a:ext cx="3691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473120"/>
            <a:ext cx="99061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 mean Sea Surface Tempera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9720" y="4859280"/>
            <a:ext cx="1800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24160" y="3742920"/>
            <a:ext cx="276480" cy="11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4880" y="2579760"/>
            <a:ext cx="29052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istorical simulations starting from 1850 preindustrial control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2920" y="2508120"/>
            <a:ext cx="28371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orecast years 1 to 3 from climate predictions initialized 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7637" t="5559" r="4773" b="9883"/>
          <a:stretch/>
        </p:blipFill>
        <p:spPr>
          <a:xfrm>
            <a:off x="5157720" y="2387520"/>
            <a:ext cx="4624560" cy="3336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57520" y="1042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-Earth 2.3 climat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5160" y="2793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IP5 decada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160" y="6103800"/>
            <a:ext cx="517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oblas-Reye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32133" b="70432"/>
          <a:stretch/>
        </p:blipFill>
        <p:spPr>
          <a:xfrm>
            <a:off x="542880" y="2124000"/>
            <a:ext cx="8729640" cy="349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43240" y="122400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ecast years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62160" y="2933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612880" y="3338640"/>
            <a:ext cx="449280" cy="765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94320" y="283212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Historical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62880" y="3608280"/>
            <a:ext cx="811080" cy="31608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2520" y="450864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052880" y="3968640"/>
            <a:ext cx="179280" cy="5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7160" y="1976400"/>
            <a:ext cx="3735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lantic Multidecadal variability (A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7160" y="1989000"/>
            <a:ext cx="4186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 mean surface atmospheric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atio-temporal dependence of sk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66800" y="1965240"/>
            <a:ext cx="6389640" cy="4299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8240" y="6103800"/>
            <a:ext cx="220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lpi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2880" y="998640"/>
            <a:ext cx="40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reSys forecast system (MetOff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8240" y="1017720"/>
            <a:ext cx="40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ar-surface temperature Tropical band (20S-20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61800" y="1900080"/>
            <a:ext cx="50403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emble-mean corre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sonal prediction: extre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89320" y="1673280"/>
            <a:ext cx="6794280" cy="480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360" y="1989000"/>
            <a:ext cx="2252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EMBLES seasonal 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-&gt;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92520" y="1224000"/>
            <a:ext cx="594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ensemble mean 9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centile daily near surface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360" y="6149880"/>
            <a:ext cx="364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ida P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2160" y="2541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urricane frequency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36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on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ildobjekt 8" descr="timeseries_5y_delta1_paco.jpg"/>
          <p:cNvPicPr/>
          <p:nvPr/>
        </p:nvPicPr>
        <p:blipFill>
          <a:blip r:embed="rId1"/>
          <a:stretch/>
        </p:blipFill>
        <p:spPr>
          <a:xfrm>
            <a:off x="271440" y="1816200"/>
            <a:ext cx="5267520" cy="4268520"/>
          </a:xfrm>
          <a:prstGeom prst="rect">
            <a:avLst/>
          </a:prstGeom>
          <a:ln w="0">
            <a:noFill/>
          </a:ln>
        </p:spPr>
      </p:pic>
      <p:pic>
        <p:nvPicPr>
          <p:cNvPr id="257" name="Bildobjekt 10" descr="corr_5y_delta1_paco.jpg"/>
          <p:cNvPicPr/>
          <p:nvPr/>
        </p:nvPicPr>
        <p:blipFill>
          <a:blip r:embed="rId2"/>
          <a:stretch/>
        </p:blipFill>
        <p:spPr>
          <a:xfrm>
            <a:off x="6438960" y="1617840"/>
            <a:ext cx="2681280" cy="4286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38240" y="216864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MIP5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" y="998640"/>
            <a:ext cx="55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of hurricanes per year over forecast year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5160" y="20952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services: renewable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98600" y="1089000"/>
            <a:ext cx="7020000" cy="5135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90360" y="6129360"/>
            <a:ext cx="364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enert and Doblas-Reyes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s for fu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8240" y="909720"/>
            <a:ext cx="9585360" cy="55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ain goal: Consolidate the IC3 global climate prediction capabil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Verdana"/>
              </a:rPr>
              <a:t>Technical requirements: progress in autosubmit, HPC capability, updated EC-Earth and NEMO versions, enhance  technical capacity (robust local network, redundancy, data management, common diagnostics, etc.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Verdana"/>
              </a:rPr>
              <a:t>Scientific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Contribute to the EC-Earth development: high resolution, stochastic parameterizations, ocean bias reduction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mprove climate forecast initialization (CDA, anomaly initialization, land surface and sea-ice initializatio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Diagnose sources of seasonal and decadal skil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mprove calibration, combination and downscaling for climate serv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00"/>
                </a:solidFill>
                <a:latin typeface="Verdana"/>
              </a:rPr>
              <a:t>Keep applying for funding (several proposals already submitted) and HPC resources, and increase the climate services capabil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480" y="253800"/>
            <a:ext cx="1002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stitut Català de Ciències del Cli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6800" y="1449360"/>
            <a:ext cx="350964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arth System Model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limate Dynam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3) Modelling of climate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4) Climate Change and Theoretical Climate Stud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5) Climate Predic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6) Modern and Paleoclimate Observations and Sim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7) Climate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38600" y="980640"/>
            <a:ext cx="5895720" cy="5148000"/>
            <a:chOff x="3738600" y="980640"/>
            <a:chExt cx="5895720" cy="5148000"/>
          </a:xfrm>
        </p:grpSpPr>
        <p:pic>
          <p:nvPicPr>
            <p:cNvPr id="55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738600" y="1428480"/>
              <a:ext cx="5895720" cy="47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422840" y="98064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600" spc="-1" strike="noStrike">
                  <a:solidFill>
                    <a:srgbClr val="ffffff"/>
                  </a:solidFill>
                  <a:latin typeface="Century"/>
                </a:rPr>
                <a:t>ORGANIGRAM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1800" y="876240"/>
            <a:ext cx="627696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Francisco J Doblas-Rey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Isabel Andreu-Burillo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ocean proces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uhammad Asif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EC-Ear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auriane Batté (V)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tochastic parameteriz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Pierre-Antoine Bretonnière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PECS 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ouis-Philippe Caron (V)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tropical cycl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lberto Carrassi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data assimi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elanie Davis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Neven Fuckar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Arctic sea 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Virginie Guémas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a ice, XXIst century hiat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Fabian Lienert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North Pacific, 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omingo Manubens 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autosubmit develo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Oriol Mula-Valls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system administra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ida Pintó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prediction of extre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ar Rodríguez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PECS 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uis Rodrigues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asonal climate predict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Gabriela Tarabanoff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cretary, 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anila Volpi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initialisation, decadal predi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Robin Weber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initialisation in simple mod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Verdana"/>
                <a:hlinkClick r:id="rId1"/>
              </a:rPr>
              <a:t>http://www.ic3.cat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      http://ic3.cat/wikicf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520" y="5533920"/>
            <a:ext cx="354240" cy="22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520" y="20019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7520" y="3608280"/>
            <a:ext cx="354240" cy="220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7520" y="2789280"/>
            <a:ext cx="354240" cy="20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7520" y="49467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520" y="92088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7520" y="1192320"/>
            <a:ext cx="35424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7520" y="4149720"/>
            <a:ext cx="354240" cy="2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7520" y="4681440"/>
            <a:ext cx="354240" cy="2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7520" y="441972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47520" y="1424160"/>
            <a:ext cx="354240" cy="21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38960" y="4329000"/>
            <a:ext cx="3254400" cy="1649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marL="325440" indent="-325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share on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uto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a-ice re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 diagnostic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4) Near-real time decadal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47520" y="2541600"/>
            <a:ext cx="354240" cy="22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52560" y="2271600"/>
            <a:ext cx="349200" cy="21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47520" y="387828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49320" y="5805360"/>
            <a:ext cx="352440" cy="22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7"/>
          <a:stretch/>
        </p:blipFill>
        <p:spPr>
          <a:xfrm>
            <a:off x="47520" y="333864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8"/>
          <a:stretch/>
        </p:blipFill>
        <p:spPr>
          <a:xfrm>
            <a:off x="47520" y="16923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9"/>
          <a:stretch/>
        </p:blipFill>
        <p:spPr>
          <a:xfrm>
            <a:off x="47520" y="5261040"/>
            <a:ext cx="354240" cy="22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2160" y="2541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ate Forecasting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8960" y="1479600"/>
            <a:ext cx="3254400" cy="2136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velopment of s2d prediction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quality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ownscaling of probabilistic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limat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47520" y="3052800"/>
            <a:ext cx="36036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34" t="31632" r="8301" b="18449"/>
          <a:stretch/>
        </p:blipFill>
        <p:spPr>
          <a:xfrm>
            <a:off x="452520" y="2259000"/>
            <a:ext cx="8969400" cy="27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69840" y="6086520"/>
            <a:ext cx="2498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eehl et al. (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71800" y="2303640"/>
            <a:ext cx="4186080" cy="265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600" y="25380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time sc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560" y="5592600"/>
            <a:ext cx="8591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880" y="5688000"/>
            <a:ext cx="922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</a:rPr>
              <a:t>Nov 2000   Nov 2001   Nov 2002   Nov 2003   Nov 2004   Nov 2005   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95400" y="5449680"/>
            <a:ext cx="0" cy="15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08240" y="543708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18240" y="544680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122880" y="544500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427880" y="545292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predi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2160" y="2035080"/>
            <a:ext cx="7200720" cy="2737080"/>
            <a:chOff x="2162160" y="2035080"/>
            <a:chExt cx="7200720" cy="2737080"/>
          </a:xfrm>
        </p:grpSpPr>
        <p:grpSp>
          <p:nvGrpSpPr>
            <p:cNvPr id="93" name=""/>
            <p:cNvGrpSpPr/>
            <p:nvPr/>
          </p:nvGrpSpPr>
          <p:grpSpPr>
            <a:xfrm>
              <a:off x="3557520" y="2798640"/>
              <a:ext cx="5805000" cy="495000"/>
              <a:chOff x="3557520" y="2798640"/>
              <a:chExt cx="5805000" cy="495000"/>
            </a:xfrm>
          </p:grpSpPr>
          <p:sp>
            <p:nvSpPr>
              <p:cNvPr id="94" name=""/>
              <p:cNvSpPr/>
              <p:nvPr/>
            </p:nvSpPr>
            <p:spPr>
              <a:xfrm>
                <a:off x="3565800" y="32936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60040" y="31658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57520" y="27986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74440" y="3094920"/>
                <a:ext cx="57880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1920" y="303120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68680" y="2964960"/>
                <a:ext cx="57880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63280" y="291708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60040" y="286668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57520" y="322272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467160" y="261936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251080" y="2168640"/>
              <a:ext cx="7111440" cy="495000"/>
              <a:chOff x="2251080" y="2168640"/>
              <a:chExt cx="7111440" cy="495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261520" y="26636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53960" y="25358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51080" y="21686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71960" y="2464920"/>
                <a:ext cx="7090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8720" y="240120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64760" y="2334960"/>
                <a:ext cx="7090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58280" y="228708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53960" y="223668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51080" y="259272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162160" y="2035080"/>
              <a:ext cx="13500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772160" y="3429000"/>
              <a:ext cx="4590360" cy="495000"/>
              <a:chOff x="4772160" y="3429000"/>
              <a:chExt cx="4590360" cy="495000"/>
            </a:xfrm>
          </p:grpSpPr>
          <p:sp>
            <p:nvSpPr>
              <p:cNvPr id="116" name=""/>
              <p:cNvSpPr/>
              <p:nvPr/>
            </p:nvSpPr>
            <p:spPr>
              <a:xfrm>
                <a:off x="4778640" y="39240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3960" y="37962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2160" y="34290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85480" y="3725280"/>
                <a:ext cx="45770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83320" y="366156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80800" y="3595320"/>
                <a:ext cx="45770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76840" y="354744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73960" y="349704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72160" y="385308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773600" y="329580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68960" y="4052880"/>
              <a:ext cx="3193920" cy="495000"/>
              <a:chOff x="6168960" y="4052880"/>
              <a:chExt cx="3193920" cy="495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173640" y="45478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70400" y="44200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68960" y="40528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78320" y="4349160"/>
                <a:ext cx="3184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76880" y="428544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75080" y="4219200"/>
                <a:ext cx="3184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72200" y="417132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0400" y="412092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68960" y="447696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078600" y="3917880"/>
              <a:ext cx="13500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47880" y="1403280"/>
            <a:ext cx="8414640" cy="854280"/>
            <a:chOff x="947880" y="1403280"/>
            <a:chExt cx="8414640" cy="854280"/>
          </a:xfrm>
        </p:grpSpPr>
        <p:grpSp>
          <p:nvGrpSpPr>
            <p:cNvPr id="138" name=""/>
            <p:cNvGrpSpPr/>
            <p:nvPr/>
          </p:nvGrpSpPr>
          <p:grpSpPr>
            <a:xfrm>
              <a:off x="1082520" y="1538280"/>
              <a:ext cx="8280000" cy="495000"/>
              <a:chOff x="1082520" y="1538280"/>
              <a:chExt cx="8280000" cy="495000"/>
            </a:xfrm>
          </p:grpSpPr>
          <p:sp>
            <p:nvSpPr>
              <p:cNvPr id="139" name=""/>
              <p:cNvSpPr/>
              <p:nvPr/>
            </p:nvSpPr>
            <p:spPr>
              <a:xfrm>
                <a:off x="1094760" y="20332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86120" y="19054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82520" y="15382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7000" y="1834560"/>
                <a:ext cx="825552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03040" y="177084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98360" y="1704600"/>
                <a:ext cx="825552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90800" y="165672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86120" y="160632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82520" y="196236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947880" y="1403280"/>
              <a:ext cx="13464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429680" y="1494000"/>
            <a:ext cx="130320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tim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13240" y="543564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732880" y="543564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38960" y="4510080"/>
            <a:ext cx="2023920" cy="853920"/>
            <a:chOff x="7338960" y="4510080"/>
            <a:chExt cx="2023920" cy="853920"/>
          </a:xfrm>
        </p:grpSpPr>
        <p:grpSp>
          <p:nvGrpSpPr>
            <p:cNvPr id="153" name=""/>
            <p:cNvGrpSpPr/>
            <p:nvPr/>
          </p:nvGrpSpPr>
          <p:grpSpPr>
            <a:xfrm>
              <a:off x="7429680" y="4645080"/>
              <a:ext cx="1933200" cy="495000"/>
              <a:chOff x="7429680" y="4645080"/>
              <a:chExt cx="1933200" cy="495000"/>
            </a:xfrm>
          </p:grpSpPr>
          <p:sp>
            <p:nvSpPr>
              <p:cNvPr id="154" name=""/>
              <p:cNvSpPr/>
              <p:nvPr/>
            </p:nvSpPr>
            <p:spPr>
              <a:xfrm>
                <a:off x="7432200" y="51400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30400" y="50122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29680" y="46450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35080" y="4941360"/>
                <a:ext cx="19278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34360" y="487764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3280" y="4811400"/>
                <a:ext cx="19278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31480" y="476352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30400" y="471312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29680" y="506916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338960" y="451008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7880" y="2259000"/>
            <a:ext cx="6931080" cy="2790720"/>
            <a:chOff x="407880" y="2259000"/>
            <a:chExt cx="6931080" cy="2790720"/>
          </a:xfrm>
        </p:grpSpPr>
        <p:sp>
          <p:nvSpPr>
            <p:cNvPr id="165" name=""/>
            <p:cNvSpPr/>
            <p:nvPr/>
          </p:nvSpPr>
          <p:spPr>
            <a:xfrm>
              <a:off x="407880" y="4643280"/>
              <a:ext cx="1303560" cy="31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992160" y="225900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4778280"/>
              <a:ext cx="562608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52520" y="2843280"/>
            <a:ext cx="4680000" cy="1528920"/>
            <a:chOff x="1352520" y="2843280"/>
            <a:chExt cx="4680000" cy="1528920"/>
          </a:xfrm>
        </p:grpSpPr>
        <p:sp>
          <p:nvSpPr>
            <p:cNvPr id="169" name=""/>
            <p:cNvSpPr/>
            <p:nvPr/>
          </p:nvSpPr>
          <p:spPr>
            <a:xfrm>
              <a:off x="1352520" y="4059360"/>
              <a:ext cx="1303200" cy="31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982880" y="2843280"/>
              <a:ext cx="1792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938240" y="3114720"/>
              <a:ext cx="148428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658960" y="3833280"/>
              <a:ext cx="2114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57520" y="4194000"/>
              <a:ext cx="3375000" cy="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18240" y="4654440"/>
            <a:ext cx="130356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time 1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subm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66800" y="954000"/>
            <a:ext cx="657072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280" y="2681280"/>
            <a:ext cx="5061240" cy="3525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7880" y="998280"/>
            <a:ext cx="976788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a ice simulation constrained by ocean and atmosphere observation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itial conditions: sea ice re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31800" y="3571920"/>
            <a:ext cx="1297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2880" y="3076560"/>
            <a:ext cx="43668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880" y="5127480"/>
            <a:ext cx="189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92160" y="4695480"/>
            <a:ext cx="45072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97160" y="5218200"/>
            <a:ext cx="216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 ice re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905200" y="4759200"/>
            <a:ext cx="475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280" y="3672000"/>
            <a:ext cx="215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constru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42880" y="3481560"/>
            <a:ext cx="223920" cy="25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9680" y="3852720"/>
            <a:ext cx="215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Reconstru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278240" y="3525480"/>
            <a:ext cx="405000" cy="360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7480" y="2490840"/>
            <a:ext cx="401004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ch and September re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7520" y="2851200"/>
            <a:ext cx="1935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3596" t="0" r="0" b="0"/>
          <a:stretch/>
        </p:blipFill>
        <p:spPr>
          <a:xfrm>
            <a:off x="5089680" y="2689200"/>
            <a:ext cx="4816440" cy="353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56080" y="2513160"/>
            <a:ext cx="436752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oot Mean Square Error in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3525840"/>
            <a:ext cx="223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CMIP5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795800" y="3481560"/>
            <a:ext cx="7164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27800" y="2890800"/>
            <a:ext cx="3240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ensitivity experiment from sea ice 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96160" y="3914640"/>
            <a:ext cx="36036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13240" y="2033640"/>
            <a:ext cx="34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ctic sea i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uemas et al. (20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 assimi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32160" y="2641680"/>
            <a:ext cx="7470720" cy="3757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8240" y="90792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38600" y="12160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compartments Lorenz 3-variable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rassi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7520" y="288936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From Magnusson et al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160" y="279360"/>
            <a:ext cx="8515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libration/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odrigue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07520" y="1223640"/>
            <a:ext cx="93157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combination of persistence-based model + the ECMWF System 4 + CFSV2 and Météo-France’s System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vember -&gt; January Nino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65961" r="48162" b="0"/>
          <a:stretch/>
        </p:blipFill>
        <p:spPr>
          <a:xfrm>
            <a:off x="227160" y="3019320"/>
            <a:ext cx="4682880" cy="2136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49309" t="32982" r="0" b="32982"/>
          <a:stretch/>
        </p:blipFill>
        <p:spPr>
          <a:xfrm>
            <a:off x="4997520" y="3084480"/>
            <a:ext cx="4591080" cy="214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12880" y="3568680"/>
            <a:ext cx="3014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8240" y="3567240"/>
            <a:ext cx="3014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3240" y="3746520"/>
            <a:ext cx="358920" cy="360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66800" y="334152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98600" y="454968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037880" y="4467240"/>
            <a:ext cx="58428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97520" y="3386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19191"/>
                </a:solidFill>
                <a:latin typeface="Arial"/>
              </a:rPr>
              <a:t>95% prediction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922880" y="3701880"/>
            <a:ext cx="90360" cy="719280"/>
          </a:xfrm>
          <a:prstGeom prst="line">
            <a:avLst/>
          </a:prstGeom>
          <a:ln w="936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87880" y="4959360"/>
            <a:ext cx="3691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3T17:38:31Z</dcterms:created>
  <dc:creator>V Guemas</dc:creator>
  <dc:description/>
  <cp:keywords/>
  <dc:language>en-US</dc:language>
  <cp:lastModifiedBy>IC3</cp:lastModifiedBy>
  <cp:lastPrinted>2001-09-19T15:15:32Z</cp:lastPrinted>
  <dcterms:modified xsi:type="dcterms:W3CDTF">2013-09-24T11:52:01Z</dcterms:modified>
  <cp:revision>1951</cp:revision>
  <dc:subject/>
  <dc:title>Diapositiva 1</dc:title>
</cp:coreProperties>
</file>